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C1D9-1F06-4578-A003-4777912F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CF61-B2F0-4693-9A27-B81BF59F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6B17-D26A-4748-9645-52EFF561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4C82-4132-4EE3-9008-FC5F613F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5519-4B7D-4912-BB43-90CEE9F7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44A4-B782-403A-A3FE-0969BEAD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BFC1-28B1-4809-B54D-00EF1596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4511-1626-4B13-AAB9-BF761E94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432E-17F4-4DF0-802B-1C401548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1B03-6286-4740-A5D1-50A17D04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C03C-5A57-47B7-A2D5-77673F35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33DC-30F1-4782-95C8-46379310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1D8A-53AE-4A9D-AEF4-9C9AF697CF8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79D5-53C4-4C21-B139-D9171F002DD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فعالية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كموصل جيد للمعلوم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781200" y="2809800"/>
          <a:ext cx="7772400" cy="839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2809800"/>
                    <a:ext cx="7772400" cy="83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6224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2513-89B9-44FC-B3D9-1F915FECDCB6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11280" y="2311560"/>
          <a:ext cx="8353440" cy="83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11560"/>
                    <a:ext cx="8353440" cy="83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018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1D06-AB81-4E2A-9B14-93E90F81B031}" type="slidenum">
              <a:t>1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1760" y="2434320"/>
            <a:ext cx="7534800" cy="30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33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شمولية (الحد الأدنى من المعلومات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اعتماد المستفيدين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قراءة كل جزء من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فهم محتويات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981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ؤشرات فعالية التقارير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BF95-DBE4-4CBF-8CD7-FD60452C27DF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4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 (العرض والافصا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de7b1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ا هو الافصاح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معلومات المهمة للمستفيدين من التقارير المالية بطريقة تساعد على التنبؤ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أو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قوائم المالية بكل وضوح طبقا للمبادئ المحاسبية المتعارف علي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963A-9DD1-4A49-A8D8-16489E0BE8D5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ية العرض والإفصا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يحقق عدد من المزاي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مداد المستفيدين بالمعلومات عن المنشأة أو المشروع وبالتالي ترشيد عملية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ستخدام الموارد الاقتصادية المتاحة بكفاءة وفعالية، بمعنى آخر يساعد على تخصيص وإعادة تخصيص الموارد بين المنشآت الاقتصا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D1D-510D-4196-B693-D063074559B4}" type="slidenum">
              <a:t>4</a:t>
            </a:fld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736200"/>
            <a:ext cx="7772760" cy="835200"/>
          </a:xfrm>
          <a:prstGeom prst="rect">
            <a:avLst/>
          </a:prstGeom>
          <a:solidFill>
            <a:srgbClr val="fde7b1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افص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37640" y="2185200"/>
            <a:ext cx="2182320" cy="96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48680" y="2257920"/>
            <a:ext cx="1960920" cy="894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بيئ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10360" y="3971880"/>
            <a:ext cx="2514600" cy="212112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قتصا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جتماع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ياس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انونية (قوانين الشركات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3997440"/>
            <a:ext cx="2514600" cy="209556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55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لائمة المعلومات لاتخاذ القرارات (خصائص المعلومات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2600" y="4016520"/>
            <a:ext cx="2590560" cy="207648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جم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داول الاس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43480" y="2133720"/>
            <a:ext cx="228600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308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3206880"/>
            <a:ext cx="646200" cy="726840"/>
          </a:xfrm>
          <a:prstGeom prst="downArrow">
            <a:avLst>
              <a:gd name="adj1" fmla="val 50000"/>
              <a:gd name="adj2" fmla="val 2812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93720" y="3213000"/>
            <a:ext cx="601920" cy="792360"/>
          </a:xfrm>
          <a:prstGeom prst="downArrow">
            <a:avLst>
              <a:gd name="adj1" fmla="val 50000"/>
              <a:gd name="adj2" fmla="val 3291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02080" y="3213000"/>
            <a:ext cx="601560" cy="792360"/>
          </a:xfrm>
          <a:prstGeom prst="downArrow">
            <a:avLst>
              <a:gd name="adj1" fmla="val 50000"/>
              <a:gd name="adj2" fmla="val 32929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DBFD-93F2-4E39-8E98-816316C12275}" type="slidenum">
              <a:t>5</a:t>
            </a:fld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920" y="1819440"/>
          <a:ext cx="9304200" cy="83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1819440"/>
                    <a:ext cx="9304200" cy="83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019920" y="63849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52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BE14-F76E-4012-A044-99A3F8C2615D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6560" y="2860560"/>
          <a:ext cx="8498160" cy="805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860560"/>
                    <a:ext cx="8498160" cy="805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43496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02A-4DF1-4FCB-BAE9-B7792C880022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68360" y="2300400"/>
          <a:ext cx="8424720" cy="84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00400"/>
                    <a:ext cx="8424720" cy="84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4263-6F2C-4004-BE02-6FBD783D9F2A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68360" y="2133720"/>
          <a:ext cx="8136000" cy="83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136000" cy="83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7E30-1E62-408C-AF79-79E83CA40C63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3:05:20Z</dcterms:modified>
  <cp:revision>28</cp:revision>
  <dc:subject/>
  <dc:title>التحليل المالي والائتماني</dc:title>
</cp:coreProperties>
</file>